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B28-516D-4A31-82AE-CB3A4F01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E67-5715-4BB8-892F-CADF19E2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A0D-2508-43FE-B704-0766ABD0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868-0AF7-49F0-A576-9DD759A0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05A-AC98-4749-AE38-93AA166B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AE2-4E68-4A78-AD5D-C59AF2DA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8FE-DB1E-436A-897E-1FF3031A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7EB-D153-409B-BA68-E8E721C8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391-9254-405A-9D40-762117D0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EAB-8F6B-4BDA-8BA0-0F3ACB0F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2E4-ADDA-4279-AD17-F5A19CD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46C-F24D-40EE-AE83-C23274C7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D7AD-B977-4A78-8DD9-082210911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ch 18, 2010 Warm-up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tape measure to find the circumference of one of your circles (If you didn’t bring a circle, you may use one of the paper c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8320" y="3008160"/>
            <a:ext cx="668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it easy to measure the circumference with a tape meas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it be easier or harder to measure with a rul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uld give us the most accurate meas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find an accurate measure of circumfer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rcle Art Activit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find the circumference, diameter and radii of circles.  </a:t>
            </a: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s many circles as you wish to create a work of art on a piece of construction paper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each circle, record the radius (r), diameter (d), and circumference (c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at least 5 different size circles)</a:t>
            </a: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r design is complete, find the sum of the circumferences used in your ar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20492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91520" y="5334120"/>
            <a:ext cx="12952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Circle Art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8:10:36Z</dcterms:created>
  <dc:creator>ccps</dc:creator>
  <dc:description/>
  <dc:language>en-US</dc:language>
  <cp:lastModifiedBy>ccps</cp:lastModifiedBy>
  <dcterms:modified xsi:type="dcterms:W3CDTF">2010-03-18T17:56:15Z</dcterms:modified>
  <cp:revision>3</cp:revision>
  <dc:subject/>
  <dc:title>Warm-up:</dc:title>
</cp:coreProperties>
</file>